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9F70-9AFA-4B23-88C1-F2C423026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CD94-0BE5-46BF-A627-FEE7F36D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B630-4BE3-4821-ABDD-876782A2A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D422-0D2F-46C2-B0C9-EB22C85BA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9AC3-E339-4F93-8158-887A218EA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3509-F377-4887-ADF3-12AF8E21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125E-B602-42CD-8763-D9FE510C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E015-7370-4E7D-9CF2-D0870A8A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BC57-ECB0-4A83-96A0-E4D413B3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BF69-0F35-462C-AF68-61272733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015E-D934-4415-8DB8-1E3A3CFD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312A-EE34-4984-A036-C2F26ED6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F6C7-80A9-4041-89FF-01540511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2B3A-FBAB-4430-8674-35FA7E1B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5885-D51C-430B-8533-88D3C4FA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E0B7-7097-436E-A551-60388E971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4177-C847-4D24-A9C3-CE0EBBFB1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B6F0-A79F-4297-82B8-1F1596B7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CC14-4E1B-4F4E-BC8F-B204024E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16CE-C166-47D2-A25C-F55C2EA7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2272-1E0C-4C63-9DB6-CD0DF60F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362D-1310-40A7-A337-71DA7DEF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0817-2A66-4E7D-9AFB-1934BBB7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9E92-57BD-419B-A5D6-226176F3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7290-E848-4BF8-B548-DB71ED91B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08F7-64BD-4AC5-8B36-26B23E3ED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imes New Roman"/>
              </a:rPr>
              <a:t>Letter Tap</a:t>
            </a:r>
            <a:br>
              <a:rPr sz="4400"/>
            </a:br>
            <a:r>
              <a:rPr b="0" lang="en-US" sz="1800" spc="-1" strike="noStrike">
                <a:solidFill>
                  <a:srgbClr val="666633"/>
                </a:solidFill>
                <a:latin typeface="Times New Roman"/>
              </a:rPr>
              <a:t>A vocabulary game from Mentoring Minds</a:t>
            </a:r>
            <a:br>
              <a:rPr sz="1800"/>
            </a:br>
            <a:r>
              <a:rPr b="0" lang="en-US" sz="1800" spc="-1" strike="noStrike">
                <a:solidFill>
                  <a:srgbClr val="666633"/>
                </a:solidFill>
                <a:latin typeface="Times New Roman"/>
              </a:rPr>
              <a:t>Grades 1-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spelling words or vocabulary with your whole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imes New Roman"/>
              </a:rPr>
              <a:t>Letter Ta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a word from word wall or vocabulary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nger students may need a small group of words where they can be seen easily for this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y the word and some of the letters, then tap out the number of letters le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 on a student to complete the spelling of the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a student has spelled the word correctly, the student uses the word in a sentence or gives the defin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student then chooses the next word and repeats the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9T13:57:35Z</dcterms:created>
  <dc:creator>Ann Weeks</dc:creator>
  <dc:description/>
  <dc:language>en-US</dc:language>
  <cp:lastModifiedBy>Ann Weeks</cp:lastModifiedBy>
  <dcterms:modified xsi:type="dcterms:W3CDTF">2008-06-29T15:18:38Z</dcterms:modified>
  <cp:revision>12</cp:revision>
  <dc:subject/>
  <dc:title>Light Up the World A vocabulary game from Mentoring Minds Grades 1-4</dc:title>
</cp:coreProperties>
</file>